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9CD-F814-421E-831C-5C360247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7FF-E0CB-4403-98C9-B1003308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222-E526-429C-B2AC-D8D5518D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FA6-9169-4B7F-9380-15D78ED8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F70-31FC-4813-870B-A8E9D93A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E95-EB23-4209-A3AF-C8B81D5A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459-5C7D-4F71-A0D1-8E5DB99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4F8-CDD1-428E-A857-6D19C83D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965-D0BD-4505-B5B6-BEC2147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E8D-1FB1-4735-AA5A-D2B5698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906-98BC-44E3-BA70-2E704BA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267-6F6D-4156-B2B0-00670DE8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452-A4F6-461F-BF90-73236194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&amp;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ies &amp;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imilarities in eukaryotes &amp; prokaryotes but not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transcription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throughout c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 type of RNA polymeras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types of RNA polymerase, depends on type of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less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rs are more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838080"/>
          <a:ext cx="7696080" cy="5276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s s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sttranscriptional modific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transcriptional modifications (5’ cap, polyA tail,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r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ns &amp; exo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imilar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ibosomes can translate mRNA at the same tim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ribosome encounters STOP codon, release factor binds to A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cap involved in 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can occur at same time (and location) as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ion in nucleus; translation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er 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5:21:29Z</dcterms:created>
  <dc:creator>rubina khan</dc:creator>
  <dc:description/>
  <dc:language>en-US</dc:language>
  <cp:lastModifiedBy>rubina khan</cp:lastModifiedBy>
  <dcterms:modified xsi:type="dcterms:W3CDTF">2013-05-01T20:38:57Z</dcterms:modified>
  <cp:revision>27</cp:revision>
  <dc:subject/>
  <dc:title>Eukaryotes &amp; Prokaryotes</dc:title>
</cp:coreProperties>
</file>